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D86-2041-4571-BB25-1D23772C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689-D410-4343-B57F-2653D569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687-A3D4-4AC3-AED2-DE7288BD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BD1-C20D-4DFE-B721-DCE3A543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2C5-A9A2-4715-9FB6-031C8677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9A0-7195-4107-9FC1-BC92F780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294-00B5-41AB-8D6A-960D88E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DE5-5B19-4947-A26B-66F54175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A05-5C0F-45D2-9030-C8ABB768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8B1-1E67-42AD-98A6-7C8C5692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C36-3B1D-4612-A51D-54869E9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A91-19B9-4D62-AD75-72B35179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201-B73E-4E07-B506-6891B668D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capitalize and learn from the three components of this continental proje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alities Across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ystem/livelihood components and constraints may be common across regions – where research is done may not be the only place it is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onitoring and evaluation framework  and research design will facilitat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t research questions transcend national and reg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ent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portunities to test development hypotheses under a single conceptual framewor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understand initial conditions, pathways, and outcomes (at least qualitatively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: How does this project contribute to nutrition outcomes? How (or if?) nutrition outcomes relate to environmental, social, and economic sustain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Pathways to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“development syndromes” with similar constraints and opportun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e how interventions yield impacts across intensification and sustainability grad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, how (and if) increased productivity raise incomes and improve nutrition/stunting outco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establish logical links and measure causation between interventions and outcomes and high-level imp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mmon framework to characterize site agroecologies, household and community socioeconomic characteristics, interventions, impact pathways, and indicators (M&amp;E pla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etails of interventions, component technologies will vary within and between the three reg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opportunities to scale up across intensification/sustainability grad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ly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portunity for to share lessons and expertise across regions and discip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development partners, and focus discussion on integration and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for feedback and adaptive changes to research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from other programs: CRPs, CRSPs, development activities, CAADP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20:28Z</dcterms:created>
  <dc:creator>Windows User</dc:creator>
  <dc:description/>
  <dc:language>en-US</dc:language>
  <cp:lastModifiedBy>eleborgne</cp:lastModifiedBy>
  <dcterms:modified xsi:type="dcterms:W3CDTF">2012-02-13T06:56:00Z</dcterms:modified>
  <cp:revision>7</cp:revision>
  <dc:subject/>
  <dc:title>How do we capitalize and learn from the three components of this continental project?</dc:title>
</cp:coreProperties>
</file>